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0091-C632-4EE4-B9CD-82C3873251F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208A-FEAF-4DC0-A986-D512274723A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A9F9-B601-4D7A-A095-16DF572A49E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D418-FCA5-4867-ADC0-151BC13E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749-5408-4398-B83F-79838E39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600F-6B69-42E1-9115-5A69412E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ACC2-BDA7-46FC-9BCD-B6C19B63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4A7-D0EB-4FFE-BB28-BCB0EB67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58F-B243-4503-8076-2C4D5598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055-C2B6-45A5-B484-3990CA9B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931B-DE5F-480D-BB26-66184685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3F09-FEDE-4257-8155-EC279A91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BEC-B73A-4BFC-BFA5-D9FA1E1C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4E7-3384-4128-90D4-665BD53F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3ED6-58BB-4AEB-B8F6-50CB7BD7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582A-FACE-4252-9C9A-93BA9EFDB83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68360" y="274680"/>
            <a:ext cx="82184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LOGO SIURB H"/>
          <p:cNvPicPr/>
          <p:nvPr/>
        </p:nvPicPr>
        <p:blipFill>
          <a:blip r:embed="rId2"/>
          <a:stretch/>
        </p:blipFill>
        <p:spPr>
          <a:xfrm>
            <a:off x="1835280" y="0"/>
            <a:ext cx="4857480" cy="207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68360" y="274680"/>
            <a:ext cx="82184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8"/>
          <p:cNvGraphicFramePr/>
          <p:nvPr/>
        </p:nvGraphicFramePr>
        <p:xfrm>
          <a:off x="179280" y="2668680"/>
          <a:ext cx="3888000" cy="32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68680"/>
                    <a:ext cx="388800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Picture 9" descr=""/>
          <p:cNvPicPr/>
          <p:nvPr/>
        </p:nvPicPr>
        <p:blipFill>
          <a:blip r:embed="rId3"/>
          <a:stretch/>
        </p:blipFill>
        <p:spPr>
          <a:xfrm>
            <a:off x="4932360" y="2276640"/>
            <a:ext cx="3456000" cy="2084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5076720" y="479736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to GeoCONVIA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utubro 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7561080" cy="4170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REAS DE RESTR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7561080" cy="41702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AL DE OBRA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7561080" cy="41702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NITOR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7561080" cy="41702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STRO DE AS BUI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239760" y="2421000"/>
            <a:ext cx="7647120" cy="4176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 DE Á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239760" y="2421000"/>
            <a:ext cx="7647120" cy="4176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 DE ESG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239760" y="2421000"/>
            <a:ext cx="7647120" cy="4176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REN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239760" y="2421000"/>
            <a:ext cx="7647120" cy="4176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 DE G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39760" y="2421000"/>
            <a:ext cx="7647120" cy="41767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 DE TELEF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39760" y="2421000"/>
            <a:ext cx="7647120" cy="41767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 DE ILUMINAÇÃO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2"/>
          <p:cNvSpPr/>
          <p:nvPr/>
        </p:nvSpPr>
        <p:spPr>
          <a:xfrm>
            <a:off x="584280" y="2225520"/>
            <a:ext cx="914400" cy="358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5"/>
          <p:cNvSpPr/>
          <p:nvPr/>
        </p:nvSpPr>
        <p:spPr>
          <a:xfrm>
            <a:off x="1266840" y="2208240"/>
            <a:ext cx="434880" cy="43164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735200" y="2241720"/>
            <a:ext cx="5184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692360" y="2276640"/>
            <a:ext cx="5076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Objetivo do Pro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692360" y="3213000"/>
            <a:ext cx="504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Benefí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692360" y="3716280"/>
            <a:ext cx="5184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Escopo do Pro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692360" y="4149720"/>
            <a:ext cx="5076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Arquitetura da Sol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692360" y="5157720"/>
            <a:ext cx="5076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Macro-Cron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692360" y="2708280"/>
            <a:ext cx="5076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Fluxo de Trabalho de CONV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530280" y="2781360"/>
            <a:ext cx="914400" cy="35856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5"/>
          <p:cNvSpPr/>
          <p:nvPr/>
        </p:nvSpPr>
        <p:spPr>
          <a:xfrm>
            <a:off x="1263600" y="2746440"/>
            <a:ext cx="434880" cy="43164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539640" y="3213000"/>
            <a:ext cx="914400" cy="358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5"/>
          <p:cNvSpPr/>
          <p:nvPr/>
        </p:nvSpPr>
        <p:spPr>
          <a:xfrm>
            <a:off x="1273320" y="3178080"/>
            <a:ext cx="434880" cy="43200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530280" y="3718080"/>
            <a:ext cx="914400" cy="35856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5"/>
          <p:cNvSpPr/>
          <p:nvPr/>
        </p:nvSpPr>
        <p:spPr>
          <a:xfrm>
            <a:off x="1263600" y="3683160"/>
            <a:ext cx="434880" cy="43164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541440" y="4221000"/>
            <a:ext cx="914400" cy="358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5"/>
          <p:cNvSpPr/>
          <p:nvPr/>
        </p:nvSpPr>
        <p:spPr>
          <a:xfrm>
            <a:off x="1274760" y="4186080"/>
            <a:ext cx="434880" cy="43200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2"/>
          <p:cNvSpPr/>
          <p:nvPr/>
        </p:nvSpPr>
        <p:spPr>
          <a:xfrm>
            <a:off x="538200" y="4759200"/>
            <a:ext cx="914400" cy="358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5"/>
          <p:cNvSpPr/>
          <p:nvPr/>
        </p:nvSpPr>
        <p:spPr>
          <a:xfrm>
            <a:off x="1271520" y="4724280"/>
            <a:ext cx="434880" cy="43200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547560" y="5191200"/>
            <a:ext cx="914400" cy="35856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5"/>
          <p:cNvSpPr/>
          <p:nvPr/>
        </p:nvSpPr>
        <p:spPr>
          <a:xfrm>
            <a:off x="1281240" y="5156280"/>
            <a:ext cx="434880" cy="43164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2"/>
          <p:cNvSpPr/>
          <p:nvPr/>
        </p:nvSpPr>
        <p:spPr>
          <a:xfrm>
            <a:off x="538200" y="5695920"/>
            <a:ext cx="914400" cy="358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5"/>
          <p:cNvSpPr/>
          <p:nvPr/>
        </p:nvSpPr>
        <p:spPr>
          <a:xfrm>
            <a:off x="1271520" y="5661000"/>
            <a:ext cx="434880" cy="43200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692360" y="4724280"/>
            <a:ext cx="5076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Inserção de Dados das Permissioná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1692360" y="566100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"/>
              </a:rPr>
              <a:t>Entidades Particip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39760" y="2421000"/>
            <a:ext cx="7647120" cy="4176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39760" y="2421000"/>
            <a:ext cx="7647120" cy="4176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 DE TELECOM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239760" y="2421000"/>
            <a:ext cx="7647120" cy="41767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STRO G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ENEFÍ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ponibilização da base de dados georeferenciada unificada das instalações das permissionárias e dos dados de infraestrutura do Municí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ponibilização 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strumento de apoio às atividades sob responsabilidade de CONVIAS, com efeito direto no cadastramento das informações e na confiabilidade prestada aos demais órgãos da PMSP e aos muníc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stabelecimento de um padrão para intercâmbio de dados geográficos das permissionárias de serviços públicos com o GeoCONV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6560" y="2565360"/>
            <a:ext cx="770580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envolvimento d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GeoCONVIAS - Sistema de Gestão Integrada de Obras em Vias Públic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m ambiente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trução da base de dados georeferenciada unificada, contendo os dados cartográficos e as redes das permissionárias e PM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trução das ferramentas para georeferenciamento e acompanhamento do processo de tramitação das solicitações efetuadas pelas permissionárias e muníci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lantação do processo de atualização das bases de dados, a partir das informações fornecidas pelas permissioná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lantação dos mecanismos de controle de acesso e de segurança às aplicações e dados d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GeoCONV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COPO DO 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971640" y="2637000"/>
            <a:ext cx="1079280" cy="1344600"/>
            <a:chOff x="971640" y="2637000"/>
            <a:chExt cx="1079280" cy="1344600"/>
          </a:xfrm>
        </p:grpSpPr>
        <p:grpSp>
          <p:nvGrpSpPr>
            <p:cNvPr id="144" name="Group 3"/>
            <p:cNvGrpSpPr/>
            <p:nvPr/>
          </p:nvGrpSpPr>
          <p:grpSpPr>
            <a:xfrm>
              <a:off x="971640" y="2637000"/>
              <a:ext cx="1079280" cy="1344600"/>
              <a:chOff x="971640" y="2637000"/>
              <a:chExt cx="1079280" cy="1344600"/>
            </a:xfrm>
          </p:grpSpPr>
          <p:grpSp>
            <p:nvGrpSpPr>
              <p:cNvPr id="145" name="Group 4"/>
              <p:cNvGrpSpPr/>
              <p:nvPr/>
            </p:nvGrpSpPr>
            <p:grpSpPr>
              <a:xfrm>
                <a:off x="971640" y="2686320"/>
                <a:ext cx="1079280" cy="1295280"/>
                <a:chOff x="971640" y="2686320"/>
                <a:chExt cx="1079280" cy="1295280"/>
              </a:xfrm>
            </p:grpSpPr>
            <p:sp>
              <p:nvSpPr>
                <p:cNvPr id="146" name="AutoShape 5"/>
                <p:cNvSpPr/>
                <p:nvPr/>
              </p:nvSpPr>
              <p:spPr>
                <a:xfrm>
                  <a:off x="971640" y="2686320"/>
                  <a:ext cx="1079280" cy="1295280"/>
                </a:xfrm>
                <a:custGeom>
                  <a:avLst/>
                  <a:gdLst>
                    <a:gd name="textAreaLeft" fmla="*/ 52560 w 1079280"/>
                    <a:gd name="textAreaRight" fmla="*/ 1026720 w 1079280"/>
                    <a:gd name="textAreaTop" fmla="*/ 52560 h 1295280"/>
                    <a:gd name="textAreaBottom" fmla="*/ 1242720 h 1295280"/>
                  </a:gdLst>
                  <a:ahLst/>
                  <a:rect l="textAreaLeft" t="textAreaTop" r="textAreaRight" b="textAreaBottom"/>
                  <a:pathLst>
                    <a:path w="21600" h="25921">
                      <a:moveTo>
                        <a:pt x="3600" y="0"/>
                      </a:moveTo>
                      <a:arcTo wR="3600" hR="3600" stAng="16200000" swAng="-5400000"/>
                      <a:lnTo>
                        <a:pt x="0" y="22321"/>
                      </a:lnTo>
                      <a:arcTo wR="3600" hR="3600" stAng="10800000" swAng="-5400000"/>
                      <a:lnTo>
                        <a:pt x="18000" y="25921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6"/>
                <p:cNvSpPr/>
                <p:nvPr/>
              </p:nvSpPr>
              <p:spPr>
                <a:xfrm>
                  <a:off x="971640" y="2928960"/>
                  <a:ext cx="107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Text Box 7"/>
              <p:cNvSpPr/>
              <p:nvPr/>
            </p:nvSpPr>
            <p:spPr>
              <a:xfrm>
                <a:off x="1124640" y="2637000"/>
                <a:ext cx="91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Perm.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AutoShape 8"/>
            <p:cNvSpPr/>
            <p:nvPr/>
          </p:nvSpPr>
          <p:spPr>
            <a:xfrm>
              <a:off x="1180800" y="3117960"/>
              <a:ext cx="633240" cy="63360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Telefon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6300720" y="4508640"/>
            <a:ext cx="1584360" cy="2349360"/>
            <a:chOff x="6300720" y="4508640"/>
            <a:chExt cx="1584360" cy="2349360"/>
          </a:xfrm>
        </p:grpSpPr>
        <p:sp>
          <p:nvSpPr>
            <p:cNvPr id="151" name="AutoShape 10"/>
            <p:cNvSpPr/>
            <p:nvPr/>
          </p:nvSpPr>
          <p:spPr>
            <a:xfrm>
              <a:off x="6300720" y="4508640"/>
              <a:ext cx="1584360" cy="234936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2349360"/>
                <a:gd name="textAreaBottom" fmla="*/ 2272320 h 2349360"/>
              </a:gdLst>
              <a:ahLst/>
              <a:rect l="textAreaLeft" t="textAreaTop" r="textAreaRight" b="textAreaBottom"/>
              <a:pathLst>
                <a:path w="21600" h="32027">
                  <a:moveTo>
                    <a:pt x="3600" y="0"/>
                  </a:moveTo>
                  <a:arcTo wR="3600" hR="3600" stAng="16200000" swAng="-5400000"/>
                  <a:lnTo>
                    <a:pt x="0" y="28427"/>
                  </a:lnTo>
                  <a:arcTo wR="3600" hR="3600" stAng="10800000" swAng="-5400000"/>
                  <a:lnTo>
                    <a:pt x="18000" y="320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6300720" y="47070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AutoShape 13"/>
          <p:cNvSpPr/>
          <p:nvPr/>
        </p:nvSpPr>
        <p:spPr>
          <a:xfrm>
            <a:off x="6659640" y="2924280"/>
            <a:ext cx="792000" cy="79200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V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6659640" y="3716280"/>
            <a:ext cx="792000" cy="79236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Base C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6372360" y="4724280"/>
            <a:ext cx="554040" cy="55404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Com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6"/>
          <p:cNvSpPr/>
          <p:nvPr/>
        </p:nvSpPr>
        <p:spPr>
          <a:xfrm>
            <a:off x="7164360" y="4724280"/>
            <a:ext cx="554040" cy="55404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Sabe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7"/>
          <p:cNvSpPr/>
          <p:nvPr/>
        </p:nvSpPr>
        <p:spPr>
          <a:xfrm>
            <a:off x="6372360" y="5373720"/>
            <a:ext cx="554040" cy="55404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Telefo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8"/>
          <p:cNvSpPr/>
          <p:nvPr/>
        </p:nvSpPr>
        <p:spPr>
          <a:xfrm>
            <a:off x="7164360" y="5373720"/>
            <a:ext cx="554040" cy="554040"/>
          </a:xfrm>
          <a:prstGeom prst="can">
            <a:avLst>
              <a:gd name="adj" fmla="val 2492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Energ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6372360" y="2276640"/>
            <a:ext cx="150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BD GeoCONV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0"/>
          <p:cNvSpPr/>
          <p:nvPr/>
        </p:nvSpPr>
        <p:spPr>
          <a:xfrm>
            <a:off x="6372360" y="6093000"/>
            <a:ext cx="579240" cy="57924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1"/>
          <p:cNvSpPr/>
          <p:nvPr/>
        </p:nvSpPr>
        <p:spPr>
          <a:xfrm>
            <a:off x="7164360" y="6093000"/>
            <a:ext cx="579600" cy="57924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2"/>
          <p:cNvSpPr/>
          <p:nvPr/>
        </p:nvSpPr>
        <p:spPr>
          <a:xfrm>
            <a:off x="2771640" y="5157720"/>
            <a:ext cx="1582920" cy="57636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dr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oConv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3"/>
          <p:cNvSpPr/>
          <p:nvPr/>
        </p:nvSpPr>
        <p:spPr>
          <a:xfrm rot="2405400">
            <a:off x="1618920" y="4581000"/>
            <a:ext cx="1227240" cy="140040"/>
          </a:xfrm>
          <a:prstGeom prst="rightArrow">
            <a:avLst>
              <a:gd name="adj1" fmla="val 50000"/>
              <a:gd name="adj2" fmla="val 2190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24"/>
          <p:cNvGrpSpPr/>
          <p:nvPr/>
        </p:nvGrpSpPr>
        <p:grpSpPr>
          <a:xfrm>
            <a:off x="2340000" y="2637000"/>
            <a:ext cx="1079640" cy="1342440"/>
            <a:chOff x="2340000" y="2637000"/>
            <a:chExt cx="1079640" cy="1342440"/>
          </a:xfrm>
        </p:grpSpPr>
        <p:grpSp>
          <p:nvGrpSpPr>
            <p:cNvPr id="165" name="Group 25"/>
            <p:cNvGrpSpPr/>
            <p:nvPr/>
          </p:nvGrpSpPr>
          <p:grpSpPr>
            <a:xfrm>
              <a:off x="2340000" y="2684520"/>
              <a:ext cx="1079640" cy="1294920"/>
              <a:chOff x="2340000" y="2684520"/>
              <a:chExt cx="1079640" cy="1294920"/>
            </a:xfrm>
          </p:grpSpPr>
          <p:sp>
            <p:nvSpPr>
              <p:cNvPr id="166" name="AutoShape 26"/>
              <p:cNvSpPr/>
              <p:nvPr/>
            </p:nvSpPr>
            <p:spPr>
              <a:xfrm>
                <a:off x="2340000" y="2684520"/>
                <a:ext cx="1079640" cy="1294920"/>
              </a:xfrm>
              <a:custGeom>
                <a:avLst/>
                <a:gdLst>
                  <a:gd name="textAreaLeft" fmla="*/ 52560 w 1079640"/>
                  <a:gd name="textAreaRight" fmla="*/ 1027080 w 1079640"/>
                  <a:gd name="textAreaTop" fmla="*/ 52560 h 1294920"/>
                  <a:gd name="textAreaBottom" fmla="*/ 1242360 h 1294920"/>
                </a:gdLst>
                <a:ahLst/>
                <a:rect l="textAreaLeft" t="textAreaTop" r="textAreaRight" b="textAreaBottom"/>
                <a:pathLst>
                  <a:path w="21600" h="25906">
                    <a:moveTo>
                      <a:pt x="3600" y="0"/>
                    </a:moveTo>
                    <a:arcTo wR="3600" hR="3600" stAng="16200000" swAng="-5400000"/>
                    <a:lnTo>
                      <a:pt x="0" y="22306"/>
                    </a:lnTo>
                    <a:arcTo wR="3600" hR="3600" stAng="10800000" swAng="-5400000"/>
                    <a:lnTo>
                      <a:pt x="18000" y="2590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27"/>
              <p:cNvSpPr/>
              <p:nvPr/>
            </p:nvSpPr>
            <p:spPr>
              <a:xfrm>
                <a:off x="2340000" y="2927160"/>
                <a:ext cx="10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Text Box 28"/>
            <p:cNvSpPr/>
            <p:nvPr/>
          </p:nvSpPr>
          <p:spPr>
            <a:xfrm>
              <a:off x="2404440" y="263700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Perm.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29"/>
            <p:cNvSpPr/>
            <p:nvPr/>
          </p:nvSpPr>
          <p:spPr>
            <a:xfrm>
              <a:off x="2544840" y="3116160"/>
              <a:ext cx="633240" cy="633240"/>
            </a:xfrm>
            <a:prstGeom prst="can">
              <a:avLst>
                <a:gd name="adj" fmla="val 24921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Energ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30"/>
          <p:cNvGrpSpPr/>
          <p:nvPr/>
        </p:nvGrpSpPr>
        <p:grpSpPr>
          <a:xfrm>
            <a:off x="3564000" y="2637000"/>
            <a:ext cx="1079280" cy="1342800"/>
            <a:chOff x="3564000" y="2637000"/>
            <a:chExt cx="1079280" cy="1342800"/>
          </a:xfrm>
        </p:grpSpPr>
        <p:grpSp>
          <p:nvGrpSpPr>
            <p:cNvPr id="171" name="Group 31"/>
            <p:cNvGrpSpPr/>
            <p:nvPr/>
          </p:nvGrpSpPr>
          <p:grpSpPr>
            <a:xfrm>
              <a:off x="3564000" y="2684520"/>
              <a:ext cx="1079280" cy="1295280"/>
              <a:chOff x="3564000" y="2684520"/>
              <a:chExt cx="1079280" cy="1295280"/>
            </a:xfrm>
          </p:grpSpPr>
          <p:grpSp>
            <p:nvGrpSpPr>
              <p:cNvPr id="172" name="Group 32"/>
              <p:cNvGrpSpPr/>
              <p:nvPr/>
            </p:nvGrpSpPr>
            <p:grpSpPr>
              <a:xfrm>
                <a:off x="3564000" y="2684520"/>
                <a:ext cx="1079280" cy="1295280"/>
                <a:chOff x="3564000" y="2684520"/>
                <a:chExt cx="1079280" cy="1295280"/>
              </a:xfrm>
            </p:grpSpPr>
            <p:sp>
              <p:nvSpPr>
                <p:cNvPr id="173" name="AutoShape 33"/>
                <p:cNvSpPr/>
                <p:nvPr/>
              </p:nvSpPr>
              <p:spPr>
                <a:xfrm>
                  <a:off x="3564000" y="2684520"/>
                  <a:ext cx="1079280" cy="1295280"/>
                </a:xfrm>
                <a:custGeom>
                  <a:avLst/>
                  <a:gdLst>
                    <a:gd name="textAreaLeft" fmla="*/ 52560 w 1079280"/>
                    <a:gd name="textAreaRight" fmla="*/ 1026720 w 1079280"/>
                    <a:gd name="textAreaTop" fmla="*/ 52560 h 1295280"/>
                    <a:gd name="textAreaBottom" fmla="*/ 1242720 h 1295280"/>
                  </a:gdLst>
                  <a:ahLst/>
                  <a:rect l="textAreaLeft" t="textAreaTop" r="textAreaRight" b="textAreaBottom"/>
                  <a:pathLst>
                    <a:path w="21600" h="25921">
                      <a:moveTo>
                        <a:pt x="3600" y="0"/>
                      </a:moveTo>
                      <a:arcTo wR="3600" hR="3600" stAng="16200000" swAng="-5400000"/>
                      <a:lnTo>
                        <a:pt x="0" y="22321"/>
                      </a:lnTo>
                      <a:arcTo wR="3600" hR="3600" stAng="10800000" swAng="-5400000"/>
                      <a:lnTo>
                        <a:pt x="18000" y="25921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34"/>
                <p:cNvSpPr/>
                <p:nvPr/>
              </p:nvSpPr>
              <p:spPr>
                <a:xfrm>
                  <a:off x="3564000" y="2927160"/>
                  <a:ext cx="107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AutoShape 35"/>
              <p:cNvSpPr/>
              <p:nvPr/>
            </p:nvSpPr>
            <p:spPr>
              <a:xfrm>
                <a:off x="3782880" y="3141720"/>
                <a:ext cx="644760" cy="64440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Teleco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Text Box 36"/>
            <p:cNvSpPr/>
            <p:nvPr/>
          </p:nvSpPr>
          <p:spPr>
            <a:xfrm>
              <a:off x="3628440" y="263700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Perm.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7"/>
          <p:cNvGrpSpPr/>
          <p:nvPr/>
        </p:nvGrpSpPr>
        <p:grpSpPr>
          <a:xfrm>
            <a:off x="4788000" y="2637000"/>
            <a:ext cx="1079280" cy="1342800"/>
            <a:chOff x="4788000" y="2637000"/>
            <a:chExt cx="1079280" cy="1342800"/>
          </a:xfrm>
        </p:grpSpPr>
        <p:grpSp>
          <p:nvGrpSpPr>
            <p:cNvPr id="178" name="Group 38"/>
            <p:cNvGrpSpPr/>
            <p:nvPr/>
          </p:nvGrpSpPr>
          <p:grpSpPr>
            <a:xfrm>
              <a:off x="4788000" y="2684520"/>
              <a:ext cx="1079280" cy="1295280"/>
              <a:chOff x="4788000" y="2684520"/>
              <a:chExt cx="1079280" cy="1295280"/>
            </a:xfrm>
          </p:grpSpPr>
          <p:sp>
            <p:nvSpPr>
              <p:cNvPr id="179" name="AutoShape 39"/>
              <p:cNvSpPr/>
              <p:nvPr/>
            </p:nvSpPr>
            <p:spPr>
              <a:xfrm>
                <a:off x="4788000" y="2684520"/>
                <a:ext cx="1079280" cy="1295280"/>
              </a:xfrm>
              <a:custGeom>
                <a:avLst/>
                <a:gdLst>
                  <a:gd name="textAreaLeft" fmla="*/ 52560 w 1079280"/>
                  <a:gd name="textAreaRight" fmla="*/ 1026720 w 1079280"/>
                  <a:gd name="textAreaTop" fmla="*/ 52560 h 1295280"/>
                  <a:gd name="textAreaBottom" fmla="*/ 1242720 h 1295280"/>
                </a:gdLst>
                <a:ahLst/>
                <a:rect l="textAreaLeft" t="textAreaTop" r="textAreaRight" b="textAreaBottom"/>
                <a:pathLst>
                  <a:path w="21600" h="25921">
                    <a:moveTo>
                      <a:pt x="3600" y="0"/>
                    </a:moveTo>
                    <a:arcTo wR="3600" hR="3600" stAng="16200000" swAng="-5400000"/>
                    <a:lnTo>
                      <a:pt x="0" y="22321"/>
                    </a:lnTo>
                    <a:arcTo wR="3600" hR="3600" stAng="10800000" swAng="-5400000"/>
                    <a:lnTo>
                      <a:pt x="18000" y="2592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40"/>
              <p:cNvSpPr/>
              <p:nvPr/>
            </p:nvSpPr>
            <p:spPr>
              <a:xfrm>
                <a:off x="4788000" y="292716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Text Box 41"/>
            <p:cNvSpPr/>
            <p:nvPr/>
          </p:nvSpPr>
          <p:spPr>
            <a:xfrm>
              <a:off x="4852440" y="263700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Perm.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2"/>
            <p:cNvSpPr/>
            <p:nvPr/>
          </p:nvSpPr>
          <p:spPr>
            <a:xfrm>
              <a:off x="5003640" y="3141720"/>
              <a:ext cx="649440" cy="649440"/>
            </a:xfrm>
            <a:prstGeom prst="can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AutoShape 43"/>
          <p:cNvSpPr/>
          <p:nvPr/>
        </p:nvSpPr>
        <p:spPr>
          <a:xfrm rot="4008000">
            <a:off x="2482200" y="4510080"/>
            <a:ext cx="1005120" cy="137880"/>
          </a:xfrm>
          <a:prstGeom prst="rightArrow">
            <a:avLst>
              <a:gd name="adj1" fmla="val 50000"/>
              <a:gd name="adj2" fmla="val 1822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4"/>
          <p:cNvSpPr/>
          <p:nvPr/>
        </p:nvSpPr>
        <p:spPr>
          <a:xfrm rot="6435000">
            <a:off x="3342600" y="4514040"/>
            <a:ext cx="1008000" cy="133200"/>
          </a:xfrm>
          <a:prstGeom prst="rightArrow">
            <a:avLst>
              <a:gd name="adj1" fmla="val 50000"/>
              <a:gd name="adj2" fmla="val 1891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5"/>
          <p:cNvSpPr/>
          <p:nvPr/>
        </p:nvSpPr>
        <p:spPr>
          <a:xfrm rot="7809000">
            <a:off x="3975480" y="4529880"/>
            <a:ext cx="1191960" cy="142560"/>
          </a:xfrm>
          <a:prstGeom prst="rightArrow">
            <a:avLst>
              <a:gd name="adj1" fmla="val 50000"/>
              <a:gd name="adj2" fmla="val 2090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6"/>
          <p:cNvSpPr/>
          <p:nvPr/>
        </p:nvSpPr>
        <p:spPr>
          <a:xfrm>
            <a:off x="4716360" y="530064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luxo de Inserção dos Dados das Permissioná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dealizacão e Realizac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VIAS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– DEPARTAMENTO DE CONTROLE DE USO DE VIAS PÚBL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TATUS ATUAL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ROTINA DE CONVIAS INSERIDA NO PROCE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ECESSIDADES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NOVAÇÃO DE LICENÇAS SMALLWORD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    SUPORTE PARA UP LOA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XIMOS PASSOS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– INSERÇÃO DE NOVOS CADA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  MIGRAÇÃO PARA O GEOSAM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  ANALISE E APROVAÇÃO DIGITAL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5280" y="2205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SMSO tem o dever de, por intermédio do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partamento de Controle de Uso de Vias Públicas – CONVIAS,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examinar o planejamento de obras e serviços de infraestrutura urbana que venham a ser realizados nas vias publicas, aprovando, autorizando , disciplinando, monitorando e cadastrando as redes implantadas na cid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melhorar sua eficácia,CONVIAS vem desenvolvendo novos instrumentos de gestão entre eles o mapeamento em base cartográfica, de programas, projetos, cadastros, drenagem, bem como todas as informações sobre intervenções urbanas que possam interferir no cotidiano da cid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bjetivo do Projeto – GeoCONV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ção de um cadastro digital georeferenciado de redes e equipamentos de permissionárias instalados no Município de São Pa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nicialmente contendo os dados de cadastro da SABESP   e  COMGAS, hoje já contempla ELETROPAULO , VIVO , EMBRATEL e GVT ,expansível para as demais permissionári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nclusive drenagem , obras da SMSO , da Spobras .atualizado periodic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volvimento e disponibilização de acesso via Web a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GeoCONVIA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atendimento às demandas de CONV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2987640" y="2548080"/>
            <a:ext cx="2879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Progra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24000" y="4260960"/>
            <a:ext cx="1944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Cada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843280" y="5932440"/>
            <a:ext cx="316872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Monit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OCONV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443640" y="4260960"/>
            <a:ext cx="2268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Aprov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 flipV="1">
            <a:off x="6804000" y="2691720"/>
            <a:ext cx="1079640" cy="1079640"/>
          </a:xfrm>
          <a:custGeom>
            <a:avLst/>
            <a:gdLst>
              <a:gd name="textAreaLeft" fmla="*/ 0 w 1079640"/>
              <a:gd name="textAreaRight" fmla="*/ 925560 w 1079640"/>
              <a:gd name="textAreaTop" fmla="*/ 719640 h 1079640"/>
              <a:gd name="textAreaBottom" fmla="*/ 1079640 h 1079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 flipV="1" rot="5400000">
            <a:off x="6661080" y="5355000"/>
            <a:ext cx="1079640" cy="1079640"/>
          </a:xfrm>
          <a:custGeom>
            <a:avLst/>
            <a:gdLst>
              <a:gd name="textAreaLeft" fmla="*/ 0 w 1079640"/>
              <a:gd name="textAreaRight" fmla="*/ 925560 w 1079640"/>
              <a:gd name="textAreaTop" fmla="*/ 719640 h 1079640"/>
              <a:gd name="textAreaBottom" fmla="*/ 1079640 h 1079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 flipV="1" rot="10800000">
            <a:off x="971640" y="5355000"/>
            <a:ext cx="1079280" cy="1079640"/>
          </a:xfrm>
          <a:custGeom>
            <a:avLst/>
            <a:gdLst>
              <a:gd name="textAreaLeft" fmla="*/ 0 w 1079280"/>
              <a:gd name="textAreaRight" fmla="*/ 925200 w 1079280"/>
              <a:gd name="textAreaTop" fmla="*/ 719640 h 1079640"/>
              <a:gd name="textAreaBottom" fmla="*/ 1079640 h 1079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 flipV="1" rot="16200000">
            <a:off x="1115640" y="2547720"/>
            <a:ext cx="1079280" cy="1079640"/>
          </a:xfrm>
          <a:custGeom>
            <a:avLst/>
            <a:gdLst>
              <a:gd name="textAreaLeft" fmla="*/ 0 w 1079280"/>
              <a:gd name="textAreaRight" fmla="*/ 925200 w 1079280"/>
              <a:gd name="textAreaTop" fmla="*/ 719640 h 1079640"/>
              <a:gd name="textAreaBottom" fmla="*/ 1079640 h 1079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2627280" y="3916440"/>
            <a:ext cx="3240000" cy="1439640"/>
          </a:xfrm>
          <a:prstGeom prst="wedgeRectCallout">
            <a:avLst>
              <a:gd name="adj1" fmla="val -5412"/>
              <a:gd name="adj2" fmla="val -1081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indent="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Compatibilização do cronograma de obras 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Identifica possibilidades de compatibilização ou compartilhamento de redes de diferentes permissioná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4"/>
          <p:cNvSpPr/>
          <p:nvPr/>
        </p:nvSpPr>
        <p:spPr>
          <a:xfrm>
            <a:off x="2627280" y="3916440"/>
            <a:ext cx="3240000" cy="1584360"/>
          </a:xfrm>
          <a:prstGeom prst="wedgeRectCallout">
            <a:avLst>
              <a:gd name="adj1" fmla="val 74300"/>
              <a:gd name="adj2" fmla="val -12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indent="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Análise e aprovação dos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Compatibilização de interferências detect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Verifica documentação e calcula tarifas de uso de so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5"/>
          <p:cNvSpPr/>
          <p:nvPr/>
        </p:nvSpPr>
        <p:spPr>
          <a:xfrm>
            <a:off x="2627280" y="3916440"/>
            <a:ext cx="3240000" cy="1584360"/>
          </a:xfrm>
          <a:prstGeom prst="wedgeRectCallout">
            <a:avLst>
              <a:gd name="adj1" fmla="val 8939"/>
              <a:gd name="adj2" fmla="val 77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indent="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Monitora o andamento das obras a partir da comunicação de seu início efetivo pela permissioná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Divulga as informações das obras em andamento, contribuindo para a prevenção de d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6"/>
          <p:cNvSpPr/>
          <p:nvPr/>
        </p:nvSpPr>
        <p:spPr>
          <a:xfrm>
            <a:off x="2627280" y="3916440"/>
            <a:ext cx="3240000" cy="1008000"/>
          </a:xfrm>
          <a:prstGeom prst="wedgeRectCallout">
            <a:avLst>
              <a:gd name="adj1" fmla="val -60532"/>
              <a:gd name="adj2" fmla="val 11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indent="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Mantém o registro das obras novas e manutenções conforme executadas (“as-built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2916360" y="191628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LUXO DE A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3132000" y="2349360"/>
            <a:ext cx="2880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Progra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68360" y="4062240"/>
            <a:ext cx="1944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Cada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987640" y="5734080"/>
            <a:ext cx="316872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Monit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OCONV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588000" y="4062240"/>
            <a:ext cx="2268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Aprov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 flipV="1">
            <a:off x="6948360" y="2494080"/>
            <a:ext cx="1079640" cy="1079280"/>
          </a:xfrm>
          <a:custGeom>
            <a:avLst/>
            <a:gdLst>
              <a:gd name="textAreaLeft" fmla="*/ 0 w 1079640"/>
              <a:gd name="textAreaRight" fmla="*/ 925560 w 1079640"/>
              <a:gd name="textAreaTop" fmla="*/ 71964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 flipV="1" rot="5400000">
            <a:off x="6805440" y="5156640"/>
            <a:ext cx="1079640" cy="1079640"/>
          </a:xfrm>
          <a:custGeom>
            <a:avLst/>
            <a:gdLst>
              <a:gd name="textAreaLeft" fmla="*/ 0 w 1079640"/>
              <a:gd name="textAreaRight" fmla="*/ 925560 w 1079640"/>
              <a:gd name="textAreaTop" fmla="*/ 719640 h 1079640"/>
              <a:gd name="textAreaBottom" fmla="*/ 1079640 h 1079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 flipV="1" rot="10800000">
            <a:off x="1115640" y="5156640"/>
            <a:ext cx="1079640" cy="1079640"/>
          </a:xfrm>
          <a:custGeom>
            <a:avLst/>
            <a:gdLst>
              <a:gd name="textAreaLeft" fmla="*/ 0 w 1079640"/>
              <a:gd name="textAreaRight" fmla="*/ 925560 w 1079640"/>
              <a:gd name="textAreaTop" fmla="*/ 719640 h 1079640"/>
              <a:gd name="textAreaBottom" fmla="*/ 1079640 h 1079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 flipV="1" rot="16200000">
            <a:off x="1258560" y="2348640"/>
            <a:ext cx="1079640" cy="1079640"/>
          </a:xfrm>
          <a:custGeom>
            <a:avLst/>
            <a:gdLst>
              <a:gd name="textAreaLeft" fmla="*/ 0 w 1079640"/>
              <a:gd name="textAreaRight" fmla="*/ 925560 w 1079640"/>
              <a:gd name="textAreaTop" fmla="*/ 719640 h 1079640"/>
              <a:gd name="textAreaBottom" fmla="*/ 1079640 h 1079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3"/>
          <p:cNvSpPr/>
          <p:nvPr/>
        </p:nvSpPr>
        <p:spPr>
          <a:xfrm rot="5400000">
            <a:off x="4163760" y="3046320"/>
            <a:ext cx="731880" cy="490320"/>
          </a:xfrm>
          <a:prstGeom prst="leftRightArrow">
            <a:avLst>
              <a:gd name="adj1" fmla="val 50000"/>
              <a:gd name="adj2" fmla="val 297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4"/>
          <p:cNvSpPr/>
          <p:nvPr/>
        </p:nvSpPr>
        <p:spPr>
          <a:xfrm rot="5400000">
            <a:off x="4207320" y="5031360"/>
            <a:ext cx="669960" cy="490680"/>
          </a:xfrm>
          <a:prstGeom prst="leftRightArrow">
            <a:avLst>
              <a:gd name="adj1" fmla="val 50000"/>
              <a:gd name="adj2" fmla="val 271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2494080" y="4083120"/>
            <a:ext cx="709560" cy="458640"/>
          </a:xfrm>
          <a:prstGeom prst="leftRightArrow">
            <a:avLst>
              <a:gd name="adj1" fmla="val 50000"/>
              <a:gd name="adj2" fmla="val 307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6"/>
          <p:cNvSpPr/>
          <p:nvPr/>
        </p:nvSpPr>
        <p:spPr>
          <a:xfrm>
            <a:off x="5940360" y="4083120"/>
            <a:ext cx="666720" cy="458640"/>
          </a:xfrm>
          <a:prstGeom prst="leftRightArrow">
            <a:avLst>
              <a:gd name="adj1" fmla="val 50000"/>
              <a:gd name="adj2" fmla="val 289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7" descr=""/>
          <p:cNvPicPr/>
          <p:nvPr/>
        </p:nvPicPr>
        <p:blipFill>
          <a:blip r:embed="rId1"/>
          <a:stretch/>
        </p:blipFill>
        <p:spPr>
          <a:xfrm>
            <a:off x="3654360" y="3790800"/>
            <a:ext cx="1738440" cy="10479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9"/>
          <p:cNvSpPr/>
          <p:nvPr/>
        </p:nvSpPr>
        <p:spPr>
          <a:xfrm>
            <a:off x="2916360" y="1916280"/>
            <a:ext cx="29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3132000" y="1844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LUXO DE A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7561080" cy="41702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2700360" y="1916280"/>
            <a:ext cx="33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GRA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7561080" cy="4170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OV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1:28:57Z</dcterms:created>
  <dc:creator>d587751</dc:creator>
  <dc:description/>
  <dc:language>en-US</dc:language>
  <cp:lastModifiedBy>Sergio Posink Theodoro</cp:lastModifiedBy>
  <dcterms:modified xsi:type="dcterms:W3CDTF">2017-10-09T14:30:46Z</dcterms:modified>
  <cp:revision>162</cp:revision>
  <dc:subject/>
  <dc:title>Slide 1</dc:title>
</cp:coreProperties>
</file>